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24F-4B32-43B0-8E61-2E32A01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B73-CF08-4589-B734-1A093B7E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1E9-F268-40D6-B677-F704D2C3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5F0-8BA6-40D4-BC43-A06B3AC0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C11-15C7-4D2E-BB96-B1547EA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839-5BA0-4BC7-9512-98022734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49C-29E6-43AB-9B1F-2328A87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DE9-8CF1-4A98-849E-ABDD0130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84F-E241-40AB-BBFF-8DE876D0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087-9FA6-42B7-8548-77B1F47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38B-0FA5-4A9A-9376-81199DE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A97-6CC3-41D4-9318-0130DAF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C7C-09E5-496B-9B43-6838DA69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38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fait des exerc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9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fait des exercices beauc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50532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ne manque qu’une seule chose. Un petit paquet brun lui est enfin livré. Dexter a tôt fait de déchirer l’emballage. C’est son costume de hé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sque Dexter sort dans la rue, portant son costume pour la première fois, il jette un regard aux alent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eux t’aider?” demande-t-il. Il guide le chiot aux yeux exorbités à travers la chauss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19112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en sûr, quand Clovis aperçoit Dexter, il ne peut s’empêcher de faire un commentaire: “Hé, Dex! Où est la mascarad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724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yez cette souris qu’il attrape avant qu’elle ne tombe dans l’ég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800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 ce voleur de sac qu’il réussit à neutralis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426708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répare le tuyau d’arrosage de son vois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45720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retrouve un chaton per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êche un rat de toucher à un fil sous 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 rot="10800000">
            <a:off x="1979640" y="4876560"/>
            <a:ext cx="56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ère un porte-monnaie égar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teint un feu dans une poubel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52680" y="4572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organise un grand nettoyage dans le quart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19720" y="36576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’est Clovis qui est coincé dans un arbre! Vite, Dex, dépêche-toi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se rapprochant, Dexter aperçoit Clovis. Le gros matour a pourchassé un écureuil jusqu’au sommet d’un ar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 vais tomber! hurle Clovis. Au secour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219320"/>
            <a:ext cx="289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s n’ont pas d’échelle pour le sauver. Oh là là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8088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’ai une idée! Sautez sur la planche et Dex va catapulter dans les ai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xter vole dans l’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xter atterrit dans l’ar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38480"/>
            <a:ext cx="6629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est un petit chien. Il a de petites pattes, une petite queue et un petit corps. On dirait un saucisson monté sur quatre boulettes de vi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648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ute, Clovis!” crie Dexter.  “Allez, saut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343400" y="3808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vis saute de l’arbre et Dexter le sau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 puis, Clovis dit, “Dexter, je voudrais être ton partenaire.”  “Bien 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ûr! Répond Dexter avec un sourire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en sûr” “Nous sommes une équipe maintenan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800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i, tout chez Dexter est petit, sauf ses rêves: il veut devenir un héros! Ah oui! Il s’y voit déjà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1055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suis sûr que j’en suis capable, se dit-il. Si je veux devenir un héros, eh bien, je le peux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41972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se met donc au travail. Il dévore toutes les bandes dessinées de superhéros qui lui tombent sous la pa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11430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se doute bien qu’un héros doit avoir de gros muscles. Il lui faut de l’exercice, beaucoup d’exerc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9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oublant d’efforts, il escalade la montagne de sacs à ordures. Il se hisse, et HOP! Il franchit le sommet il le re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ême quand une pointe de vitesse jusqu’au coin de la rue (aller et retour!) devient plus facile, Dexter continue ses exerc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12:33Z</dcterms:created>
  <dc:creator>CVJH-LAB</dc:creator>
  <dc:description/>
  <dc:language>en-US</dc:language>
  <cp:lastModifiedBy>nield411</cp:lastModifiedBy>
  <dcterms:modified xsi:type="dcterms:W3CDTF">2008-02-27T21:09:02Z</dcterms:modified>
  <cp:revision>16</cp:revision>
  <dc:subject/>
  <dc:title>Slide 1</dc:title>
</cp:coreProperties>
</file>